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D54D-7CA2-4AA2-890D-9F1F38FC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8A4-A88D-462C-BD58-2D348902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57A-482B-49FD-A944-332F84A2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62A-5997-4202-9070-6BC6656A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DE6-A1C8-474D-9380-60FF94D0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AB19-A05E-4417-A3F8-818C2B5B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48A4-87C1-411C-8432-2251DA8C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4DF6-DE31-4EB3-9CE6-CC7D561E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048-4DF1-4BC7-B05F-6787B8A0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B5E-9ABC-4345-B30F-51C342BA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FCBC-0A01-4C51-B5F6-000F423B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4C4-D0C5-4DBA-9B5C-DA333DB3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F4C8-4320-49A4-994B-F52926BA3979}" type="slidenum">
              <a:rPr b="0" lang="en-P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1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08992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Rectangle 3" descr=""/>
          <p:cNvPicPr/>
          <p:nvPr/>
        </p:nvPicPr>
        <p:blipFill>
          <a:blip r:embed="rId1"/>
          <a:stretch/>
        </p:blipFill>
        <p:spPr>
          <a:xfrm>
            <a:off x="1712880" y="2779560"/>
            <a:ext cx="520560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66600" y="2249640"/>
            <a:ext cx="8937720" cy="345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3" descr=""/>
          <p:cNvPicPr/>
          <p:nvPr/>
        </p:nvPicPr>
        <p:blipFill>
          <a:blip r:embed="rId1"/>
          <a:stretch/>
        </p:blipFill>
        <p:spPr>
          <a:xfrm>
            <a:off x="420840" y="1231920"/>
            <a:ext cx="86500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05:26:30Z</dcterms:created>
  <dc:creator>ESTER</dc:creator>
  <dc:description/>
  <dc:language>en-US</dc:language>
  <cp:lastModifiedBy>ESTER</cp:lastModifiedBy>
  <dcterms:modified xsi:type="dcterms:W3CDTF">2012-07-12T00:10:37Z</dcterms:modified>
  <cp:revision>7</cp:revision>
  <dc:subject/>
  <dc:title>Slide 1</dc:title>
</cp:coreProperties>
</file>